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0B5-5F1A-40B1-923B-8D22E59A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153-2F65-46FD-A23C-8CB57550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043-CD40-4915-8FAF-1F7E5B86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C27-2E32-4D99-9A78-EFF24FFF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0B5-9688-4723-B81E-290A5707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E01-01E2-4DE3-8D11-18B2C7FD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804-4DE8-4A71-A770-717D2FCA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F4F-4852-41D3-96BC-E3B850A6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DAB-41FF-4A51-A023-1963E12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719-AABD-45A8-9428-B550B300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770-4BC0-499D-8499-CE6CF3C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BFF-F382-450C-8A9E-3048DD8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7168-B386-499C-A9FC-C1EAEE0E0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680" y="3214800"/>
            <a:ext cx="77724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лога клиничког фармаце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мпоненте презентације случја пацијента; Планирање фармакотерапије –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“SOAP”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ubjective, Objective, Assesment and Plan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иступ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аветовање клиничара у вези са лековима које прописуј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моћ око израде одељенског формулара –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Pharmacist’s Car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57200" y="5786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.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S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ог због којег пацијент/корисник долаз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новне тегоб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 зависности од система детаљна анамнез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ити речи пацијента/корисника у опису симп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дентификацион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е и прези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, датум рођ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а и религ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ачно стање (тренутно и претход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реса и телефонски бро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сто рођ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ним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ДЕНТИФИКАЦИОНЕ ПОДАТКЕ УСКЛАДИТИ СА ПОДАЦИМА У ПАЦИЈЕНТОВОМ ЕЛЕКТРОНСКОМ КАРТОН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лавне тего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лог због којег се пацијент обраћа лекару/фармацеуту (убележити “пацијентовим речником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ребно да садрж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х година стар/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е (колико дуго трај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новно обо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одаци о садашњем обољењ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етак (датум, модалитет: нагло, постеп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рода и ток симп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ципитирајући уз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честалост и теж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нут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рактер (или квалит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 информације ( у зависности који је систем захваћ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а дијагноза, лекови, ОТЦ препарати, физикална или балнеоклиматолошка терапија, алтернативни облици ле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ранија обољ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лежане болести у детињству (конгениталне, значајне комплика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и у старијем узрасту (дијагноза, терапија, компликације, ефек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кови (генеречки, трговачке марке, дозе, режим узим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спитализ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еративни захв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ума/повреде (велике повреде, фрактур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сфузије крви или дерив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3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ранија обољ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талне тего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ште здравствен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унизација (режим, последња за тетану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вике (пушење, алкохол, злоупотреба лекова или психоактивних супстан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това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обстретичко – гинеколошки по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392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периоди (х х 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 у којем је се јавила менар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циклус – карактеристике (фреквенца, уредност јављања, трајање, одли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и менструални пери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и живот (активан, дату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вида, парагравида, прекид трудноће (спонтано, оперативно), мртворођена деца, живорођена деца, начин порођ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цепција (ти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паниколау размаз (последњи, резулта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опауза (појава симпто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одичн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најближе чланове породиц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  (узраст или узрок смр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дравствен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тати з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игна обољења, дијабетес, артеријску хипертензију, срчана обољења, гојазност, поремећаје коагулације и крварења, артритис, обољења бубрега, ендокрина обољења, обољења јет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Consanquinity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генитална обољења, алергије, инфективна обољења (туберкулоза), ментална 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цијално-епидемиолошк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ивотни ст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утритивне и хигијенске нав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зичка активност и спо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ван, алкох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ични лекови”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treet dru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ду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нимање (претходна, садаш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јна служ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и (хоби, рели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пичан дан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тисфакције, фруст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пште пој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е у телесној ма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етит (глад) (анорексија, хипорексија, хиперорексија, полифагија, хипофа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ђ (полидипсија, хиподип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хтавица (укоче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ојење (дијафорез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нага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мор (малаксалост, умо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укупно стање (нелагод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357880" y="714240"/>
            <a:ext cx="3079800" cy="11430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Quod nocet, saepe doce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л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обо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тоглавиц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д (тренутно, диплопија, замагњен вид, скотоми, оштећен вид, носи наочаре сочи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(да ли је контролисан очни притис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рет (црвенило, су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тофоб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серофталмија (“суво око”, свра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гзофталму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лфакторна функција (аносмија, дизосмија, хипо- и хиперосмија, паросмија и какосм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истакса (локални, системски узро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инореја (назално пражњ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струкција, конгестија, перфо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усне шупљине (бол, пост назално пражњ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сна шупљ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 (гингив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церације, 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матолошк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осоди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ус (слано, слатко, горко, кисел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серостом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ебање у гр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ежан говор (дисфон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7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ардиоваскула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7140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грудима (ангинозни, при напору, независно од нап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лпитације (везано за бол или диспнеј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пнеја (при напору, пароксизмална ноћу, ортопнеја, трепопнеја, платипн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деми (симетрични или не, подколенице, руке лиц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к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марање при нап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терије: клаудикације, хипотермија, цијаноза, бледило, алергије, трофизми, сензације, улцерације, 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е: варикозне вене, хипертермија, оток и бол у екстремите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8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еспирато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шаљ (анатомско порекло, сув или са спутумом, акутан или хроничан, образац-диурналне варијације, интезитет и фреквен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утум (количина, боја, задах, вискозност, пурулен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опти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пн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Wh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еурални бол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уцање и хрк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1432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алит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тикација (жвака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у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фагија (фарингеална или езофагеална; прогресивна или интермитетна; течности или чврсте матер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ерофагија и подриги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укс, регург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руш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орек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раћање (количина, боја, задах, садржај: крв, мукус, жуч, храна (несварена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атемеза (свежа кр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енемеза (таман , кафени садржај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бух (осећај пуности, дистензија, оток, бо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игастричн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ежано ва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сови и надут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атул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лица (констипација, опстипација, дијар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атохезија (свежа крв у столи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фекација (болна, напрезање, тенез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ус (бол, печење, свраб, сфинктер-инконтиненц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цес (количина, боја, задах, конзистенција, профил, крв, мукус, маст, храна-несваре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лицистокинетска интолера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ут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лурија (таман ур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холија (бела стол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уритус (свра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OM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roblem-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riented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edical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етод евидентирање података о здравственом стању пацијента у системu решавања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ува податке у лако приступач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м формату 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начин који подстиче сталну процену и ревизију плана здравствене заштите од стране свих чланова тима здравствене зашти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0012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слабинама (радијација, повезана са микциј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зурија (болно уринирање, учесталост, хитност, колебљив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нтитет (полиурија, олигурија, анур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 (ноктурија, опсиурија, енуре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 (калкулуси, седимент, хематурија, хемоглобинурија, протеинурија, холурија), густина, осмоларит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ја, задах, волумен дан:ноћ = 4:1; 2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кција, м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беш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и проста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 – мушке генита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3196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нис : лезије, улцерације, секреција, ерекција, пријапиз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етрални сек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тиси: бол, волумен, крипторх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ротум: бол 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е функције: либидо, потенција, сношај, ејакулација, орга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дропау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 – женске генита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5720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цик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менореја (опсоменореја, проиоменореја, хиперменореја, хипоменореја, полименореја, олигоме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орагија (менструално крвар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рорагија (не-менструално крвар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гинални секрет (леукореја, ксантореја, хидрор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, свраб, печ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е функције (либидо, фригидност, оргазам, сношај (диспареунија) вагин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менопауза, менопау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ојке; брадав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3196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ј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симетрија и 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озн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зије и улце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адавиц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тра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лоре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ндокр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лесна м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ди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фа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розо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адилал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толерантност топло/хлад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немир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ер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ме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арне сексуалне карактерис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инекомаст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јазност (гинекоидна, андроид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ади врућине, црвен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 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емато-имуноло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7140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еди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ке (амилофагија, пагофагија, геофа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дрице (лако и спонта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: спонтано (мукозе=гингива), после мањих траума, хемарт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мфни чворови оток и/ил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кције (рекурент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Raynaud’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но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шти, кардиоваскуларни и неуролошки симптоми у хематолошким обољењ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ишићно-скелет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а снага (слабост); миалгија; дисфункција; грч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тралгија, артритис (оток, осетљивост, црвенило, топлота, дисфункција (јутарња укоченост), бол у леђима или вра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ок ил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ерв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копа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зиторни дефи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тоглав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трнулост и конфу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клуси будност/с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торне функције (тремор, абнормални покрети, парализ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внотежа и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ећај (дисестезије, парасте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снорук или левор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ола сфинк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нтал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св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доживљавања сопствене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паж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паж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памћ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елиг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интелектуалног функционис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ишљ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мишљења по фо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мишљења по садрж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моције и аф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вантитативни поремећаји афектив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валитативни поремећаји афектив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гони (моти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воље и вољних радњ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0012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ја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з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атологија (бол, свраб, паресте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атологија у склопу: акутних поремећаја – главобоља, температура, грозница, слабост или; хроничних – анорексија, губитак тежине, малаксалост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озне масе: у кожи, подк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адежи (проме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са (дистрибуција, текстура); но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в акроним, заш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ва и уч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глашен систематски и аналитички прист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маже да се прихвате алгорит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нављање (учењ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грише – проблеме и узро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кусира на пацијента и његове/њене пробл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на знања студ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уникација међу члановима медицинског тима</a:t>
            </a:r>
            <a:br>
              <a:rPr sz="800"/>
            </a:br>
            <a:br>
              <a:rPr sz="8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бољшава квалитет здравствене заштите и минимизира могућност грешк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ско-медицински документ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ign &amp; dat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ол - карактери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428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ракте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соматски (туп); висцерални (оштар); колике; стезање; интезиван; жарење; грчев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о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постепено, изнен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и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тез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ајање и фреквен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(сталан, поврем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везан с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знојењем, хипервентилацијом, тахикардијом, анксиозношћу, наузејом, повраћањем, дијарејом, жутицом, холуријом, ахолијом, дизуријом, крварењ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лијативни и провокативни фактор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респирације, дефекација, гутање, положај, у мировању, при покрету, храна, стрес, емо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O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obje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ње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а се може уоч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нтификовати: шта се може видети, избројати, осетити (мирис), чути или мер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сана докумен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теза субјективних и објективних података у радну дијагнозу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исује параметре терап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циони план: укључује предвиђене интервенције, дозе и дозни режим лекова, упутства за пацијента, предвиђену следећу контро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гноза: предвиђа добробит и делотворност примењен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реба да 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атак и конциз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тате свести на миним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ити прецизне и дескриптивне терм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мах по прегледу унети подат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ек унети податке о датуму и часу када је преглед започ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олико пишете, нека то буде читко и граматички правил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писати доку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збећ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шење имена других пацијента и чланова пород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мина попут, вероватно, изгледа да је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 употребљавајте терминологију која Вам је непоз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егавајте непотребне опи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зраде одељенског формулара – </a:t>
            </a: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Pharmacist’s Care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упљање инфо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дентификовање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на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ој п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на ис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Четири елемента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OM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за подата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datab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ста “тегоба”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problem l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ни пл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initial pl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SOAP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а ли се дијагноза може поставити лак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уобичај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презентација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боле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презентација неуобичајенe боле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олест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ли не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лично нисте видели, ил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 сада дијагностиков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а почиње са анамнезом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Непозн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AP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(19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00160" y="2143080"/>
            <a:ext cx="66866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S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O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asse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plan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лтернативни мо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DA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ata, Assesment and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IE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Individual Emotional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unctional Outcomes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ративни присту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9-08T05:09:58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